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5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1CB-B2DF-45AC-81D5-5AEF4BDC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4C9C-B5F9-4024-A52E-3F2C2A95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3F8-E958-45E3-A208-8984528E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E19-E677-43B4-8240-903B7F95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D0C-8D90-411F-834A-820E0577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EE5-B7C1-48D7-847D-1F43700C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382-6FDC-4B59-8EB8-A037A504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B9BB-69C3-4398-A842-3E5181DA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C8A-F51A-4FB9-9827-FDB067CC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45F0-7CC0-450D-991A-3B7E4C98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1FF-9FF6-42E3-A2C6-AD179977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139-D1DA-43D7-9D03-F1814727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D45C-1C9E-453C-81B2-C0894E1CA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4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676520"/>
            <a:ext cx="7696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quations and Inequalities Involving the Absolute 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4734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221760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  <p:grpSp>
        <p:nvGrpSpPr>
          <p:cNvPr id="74" name=""/>
          <p:cNvGrpSpPr/>
          <p:nvPr/>
        </p:nvGrpSpPr>
        <p:grpSpPr>
          <a:xfrm>
            <a:off x="228600" y="2895480"/>
            <a:ext cx="8305920" cy="1737000"/>
            <a:chOff x="228600" y="2895480"/>
            <a:chExt cx="8305920" cy="173700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228600" y="2895480"/>
              <a:ext cx="25909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228600" y="3581280"/>
              <a:ext cx="8305920" cy="4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228600" y="4114800"/>
              <a:ext cx="8269200" cy="51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905120" y="5257800"/>
            <a:ext cx="54864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219320" y="3352680"/>
            <a:ext cx="6999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8915400" cy="189072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47960" cy="609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305920" cy="43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1752480"/>
            <a:ext cx="5867280" cy="704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752480" y="2590920"/>
            <a:ext cx="57913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4796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8305920" cy="43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rcRect l="0" t="0" r="40265" b="2723"/>
          <a:stretch/>
        </p:blipFill>
        <p:spPr>
          <a:xfrm>
            <a:off x="533520" y="1752480"/>
            <a:ext cx="350496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191120" y="1843200"/>
            <a:ext cx="1600200" cy="519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133720" y="2666880"/>
            <a:ext cx="495288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79405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924280" cy="627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458200" cy="490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800600" cy="73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380880" y="2514600"/>
            <a:ext cx="5673960" cy="15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648320" y="4038480"/>
            <a:ext cx="420840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320" y="380880"/>
            <a:ext cx="8915400" cy="289080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  <p:grpSp>
        <p:nvGrpSpPr>
          <p:cNvPr id="62" name=""/>
          <p:cNvGrpSpPr/>
          <p:nvPr/>
        </p:nvGrpSpPr>
        <p:grpSpPr>
          <a:xfrm>
            <a:off x="228600" y="3581280"/>
            <a:ext cx="8255160" cy="1844640"/>
            <a:chOff x="228600" y="3581280"/>
            <a:chExt cx="8255160" cy="184464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228600" y="3581280"/>
              <a:ext cx="2590920" cy="5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380880" y="4267080"/>
              <a:ext cx="7639200" cy="4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04920" y="4952880"/>
              <a:ext cx="8178840" cy="47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523880" y="5562720"/>
            <a:ext cx="617220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43400" cy="5443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382240" cy="45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1600200"/>
            <a:ext cx="5486400" cy="808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295280" y="2590920"/>
            <a:ext cx="5410440" cy="793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133720" y="373392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7-12-23T22:04:19Z</dcterms:modified>
  <cp:revision>8</cp:revision>
  <dc:subject/>
  <dc:title>Slide 1</dc:title>
</cp:coreProperties>
</file>